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6FA6-A231-4514-BCA1-A0CC2FDED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9AF3-7E50-4A43-9640-D9733B8B5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E3EB-8EFE-4B9C-BB8B-38985402E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A111-4D98-4825-9B1D-C86F74D1E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B115-6768-4CA7-8CFF-2011790FF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95A7-88C4-4C50-8D40-C6036B5F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882A-6B43-45D6-BD94-9E509F528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7F01-8C0C-4E98-8E8B-9FCE91C2C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4E04-77D2-441D-9FF5-960160377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1DDF-1455-42AE-9435-2A02A1C9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7956-BEF2-48CD-A232-B00339748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0ABC-7D9E-4788-A062-402537B7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4684-5E40-455C-8B6B-90646D374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A1D8-5CF7-41B3-8D4B-722DD743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86EA-A540-4EA2-AE7F-FA471103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7297-FA6A-4CB7-9E39-D4F7CC4A3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0D24-061E-4622-906C-A1330832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708A-CEAA-4E4B-A5E2-DD1F2904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702F-3C1C-45DE-B01C-C3015290C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B686-013B-449B-88C0-FCE4D00DE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0632-6621-449B-B3DF-72AD42BCD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838A-DAFE-4A6E-A886-F6018CCE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8ADD-32CF-4F1A-9EF9-5BEB5958A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6289-8B90-4003-92FE-D9E48ED8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227-C7AD-4BFB-9D2F-4A3F7E33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9626-B075-48A3-8B98-F3A9AC2EF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85C1-E63E-4AC5-AA7B-882DA862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642-7B2B-445D-8D32-DF07B35A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19B-DA94-408F-8F65-A24176E0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902-A037-4A2E-AB2D-87535A53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F51-3AA4-4536-AA19-1FC240BE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899-B477-4738-B9A8-2974C952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B2B-C512-4DA5-99EF-9B0D6316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FF4-3086-473B-8FC5-6B36B81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857-665C-404C-9184-7180510F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5E0-227B-4728-8E64-03DC706C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CA8-BC76-4E46-A3CD-BCB68E23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64B-AFB9-496D-B470-E66044E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EC9-BE07-40BF-9F45-5312896A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C084-F6EA-4241-8D49-82286FCB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4876920" y="31240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fait cha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956840" y="4267080"/>
            <a:ext cx="218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ple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957920" y="5257800"/>
            <a:ext cx="30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fait fro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9">
            <a:hlinkClick r:id="rId1" action="ppaction://hlinksldjump"/>
          </p:cNvPr>
          <p:cNvSpPr/>
          <p:nvPr/>
        </p:nvSpPr>
        <p:spPr>
          <a:xfrm>
            <a:off x="3733920" y="3276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>
            <a:hlinkClick r:id="rId2" action="ppaction://hlinksldjump"/>
          </p:cNvPr>
          <p:cNvSpPr/>
          <p:nvPr/>
        </p:nvSpPr>
        <p:spPr>
          <a:xfrm>
            <a:off x="3733920" y="4343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2">
            <a:hlinkClick r:id="" action="ppaction://hlinkshowjump?jump=nextslide"/>
          </p:cNvPr>
          <p:cNvSpPr/>
          <p:nvPr/>
        </p:nvSpPr>
        <p:spPr>
          <a:xfrm>
            <a:off x="3733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5" descr="C:\Users\owner\Desktop\21746349_jpg_files\21746349.jpg"/>
          <p:cNvPicPr/>
          <p:nvPr/>
        </p:nvPicPr>
        <p:blipFill>
          <a:blip r:embed="rId3"/>
          <a:stretch/>
        </p:blipFill>
        <p:spPr>
          <a:xfrm>
            <a:off x="685800" y="380880"/>
            <a:ext cx="2998800" cy="2667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7474320" y="653580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345480" y="3246480"/>
            <a:ext cx="408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ple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gè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fait be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y a du v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2819520" y="3352680"/>
            <a:ext cx="509400" cy="66204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68">
                <a:moveTo>
                  <a:pt x="0" y="0"/>
                </a:moveTo>
                <a:lnTo>
                  <a:pt x="21600" y="0"/>
                </a:lnTo>
                <a:lnTo>
                  <a:pt x="21600" y="28068"/>
                </a:lnTo>
                <a:lnTo>
                  <a:pt x="0" y="28068"/>
                </a:lnTo>
                <a:close/>
              </a:path>
              <a:path fill="lightenLess" w="21600" h="280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68">
                <a:moveTo>
                  <a:pt x="21600" y="0"/>
                </a:moveTo>
                <a:lnTo>
                  <a:pt x="21600" y="28068"/>
                </a:lnTo>
                <a:lnTo>
                  <a:pt x="20200" y="26668"/>
                </a:lnTo>
                <a:lnTo>
                  <a:pt x="20200" y="1400"/>
                </a:lnTo>
                <a:close/>
              </a:path>
              <a:path fill="darkenLess" w="21600" h="28068">
                <a:moveTo>
                  <a:pt x="21600" y="28068"/>
                </a:moveTo>
                <a:lnTo>
                  <a:pt x="0" y="28068"/>
                </a:lnTo>
                <a:lnTo>
                  <a:pt x="1400" y="26668"/>
                </a:lnTo>
                <a:lnTo>
                  <a:pt x="20200" y="26668"/>
                </a:lnTo>
                <a:close/>
              </a:path>
              <a:path fill="lighten" w="21600" h="28068">
                <a:moveTo>
                  <a:pt x="0" y="280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68"/>
                </a:lnTo>
                <a:close/>
              </a:path>
              <a:path fill="darken" w="21600" h="28068">
                <a:moveTo>
                  <a:pt x="3794" y="7027"/>
                </a:moveTo>
                <a:lnTo>
                  <a:pt x="17806" y="14034"/>
                </a:lnTo>
                <a:lnTo>
                  <a:pt x="3794" y="210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rId2" action="ppaction://hlinksldjump"/>
          </p:cNvPr>
          <p:cNvSpPr/>
          <p:nvPr/>
        </p:nvSpPr>
        <p:spPr>
          <a:xfrm>
            <a:off x="2819520" y="411480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3794" y="5410"/>
                </a:moveTo>
                <a:lnTo>
                  <a:pt x="17806" y="12417"/>
                </a:lnTo>
                <a:lnTo>
                  <a:pt x="3794" y="1942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>
            <a:hlinkClick r:id="rId3" action="ppaction://hlinksldjump"/>
          </p:cNvPr>
          <p:cNvSpPr/>
          <p:nvPr/>
        </p:nvSpPr>
        <p:spPr>
          <a:xfrm>
            <a:off x="2819520" y="480060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3794" y="5410"/>
                </a:moveTo>
                <a:lnTo>
                  <a:pt x="17806" y="12417"/>
                </a:lnTo>
                <a:lnTo>
                  <a:pt x="3794" y="1942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>
            <a:hlinkClick r:id="rId4" action="ppaction://hlinksldjump"/>
          </p:cNvPr>
          <p:cNvSpPr/>
          <p:nvPr/>
        </p:nvSpPr>
        <p:spPr>
          <a:xfrm>
            <a:off x="2819520" y="548640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3794" y="5410"/>
                </a:moveTo>
                <a:lnTo>
                  <a:pt x="17806" y="12417"/>
                </a:lnTo>
                <a:lnTo>
                  <a:pt x="3794" y="1942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C:\Users\owner\Desktop\rain_jpg_files\20677057.jpg"/>
          <p:cNvPicPr/>
          <p:nvPr/>
        </p:nvPicPr>
        <p:blipFill>
          <a:blip r:embed="rId5"/>
          <a:stretch/>
        </p:blipFill>
        <p:spPr>
          <a:xfrm>
            <a:off x="685800" y="380880"/>
            <a:ext cx="1981080" cy="2982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1143000" y="762120"/>
            <a:ext cx="366696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u gagnes!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AutoShape 6">
            <a:hlinkClick r:id="rId3" action="ppaction://hlinksldjump"/>
          </p:cNvPr>
          <p:cNvSpPr/>
          <p:nvPr/>
        </p:nvSpPr>
        <p:spPr>
          <a:xfrm>
            <a:off x="6858000" y="3200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C:\Users\owner\Desktop\happy_jpg_files\yellow Ahappy.jpg"/>
          <p:cNvPicPr/>
          <p:nvPr/>
        </p:nvPicPr>
        <p:blipFill>
          <a:blip r:embed="rId4"/>
          <a:stretch/>
        </p:blipFill>
        <p:spPr>
          <a:xfrm>
            <a:off x="1676520" y="2666880"/>
            <a:ext cx="3343320" cy="3414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844200" y="4572000"/>
            <a:ext cx="546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n, recomm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>
            <a:hlinkClick r:id="" action="ppaction://hlinkshowjump?jump=previousslide"/>
          </p:cNvPr>
          <p:cNvSpPr/>
          <p:nvPr/>
        </p:nvSpPr>
        <p:spPr>
          <a:xfrm>
            <a:off x="7086600" y="4343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:\Users\owner\Desktop\sad_jpg_files\22438264Y.jpg"/>
          <p:cNvPicPr/>
          <p:nvPr/>
        </p:nvPicPr>
        <p:blipFill>
          <a:blip r:embed="rId1"/>
          <a:stretch/>
        </p:blipFill>
        <p:spPr>
          <a:xfrm>
            <a:off x="1066680" y="685800"/>
            <a:ext cx="3571920" cy="3638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5081760" y="1523880"/>
            <a:ext cx="28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597a0"/>
                </a:solidFill>
                <a:latin typeface="Arial"/>
              </a:rPr>
              <a:t>Tant pi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50920" y="2895480"/>
            <a:ext cx="519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y a du brouill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ne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’est l’autom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fait b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457200" y="30481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17c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>
            <a:hlinkClick r:id="" action="ppaction://hlinkshowjump?jump=nextslide"/>
          </p:cNvPr>
          <p:cNvSpPr/>
          <p:nvPr/>
        </p:nvSpPr>
        <p:spPr>
          <a:xfrm>
            <a:off x="457200" y="3733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17c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>
            <a:hlinkClick r:id="" action="ppaction://hlinkshowjump?jump=nextslide"/>
          </p:cNvPr>
          <p:cNvSpPr/>
          <p:nvPr/>
        </p:nvSpPr>
        <p:spPr>
          <a:xfrm>
            <a:off x="457200" y="44197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17c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rId1" action="ppaction://hlinksldjump"/>
          </p:cNvPr>
          <p:cNvSpPr/>
          <p:nvPr/>
        </p:nvSpPr>
        <p:spPr>
          <a:xfrm>
            <a:off x="457200" y="510552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17c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C:\Users\owner\Desktop\bon_jpg_files\20453288.jpg"/>
          <p:cNvPicPr/>
          <p:nvPr/>
        </p:nvPicPr>
        <p:blipFill>
          <a:blip r:embed="rId2"/>
          <a:stretch/>
        </p:blipFill>
        <p:spPr>
          <a:xfrm>
            <a:off x="838080" y="304920"/>
            <a:ext cx="2286000" cy="25444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066680" y="609480"/>
            <a:ext cx="513396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Calligraphy"/>
              </a:rPr>
              <a:t>Dommage!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20" name="AutoShape 5">
            <a:hlinkClick r:id="" action="ppaction://hlinkshowjump?jump=previousslide"/>
          </p:cNvPr>
          <p:cNvSpPr/>
          <p:nvPr/>
        </p:nvSpPr>
        <p:spPr>
          <a:xfrm>
            <a:off x="670572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owner\Desktop\sad_jpg_files\22438264.jpg"/>
          <p:cNvPicPr/>
          <p:nvPr/>
        </p:nvPicPr>
        <p:blipFill>
          <a:blip r:embed="rId1"/>
          <a:stretch/>
        </p:blipFill>
        <p:spPr>
          <a:xfrm>
            <a:off x="1371600" y="2209680"/>
            <a:ext cx="3495600" cy="3560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2438280" y="1981080"/>
            <a:ext cx="63248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Andy"/>
              </a:rPr>
              <a:t>Félicitation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Andy"/>
              <a:ea typeface="Andy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4267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Users\owner\Desktop\happy_jpg_files\yellow happy.jpg"/>
          <p:cNvPicPr/>
          <p:nvPr/>
        </p:nvPicPr>
        <p:blipFill>
          <a:blip r:embed="rId1"/>
          <a:stretch/>
        </p:blipFill>
        <p:spPr>
          <a:xfrm>
            <a:off x="533520" y="304920"/>
            <a:ext cx="2886120" cy="2948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789560" y="2865600"/>
            <a:ext cx="5264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ne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y a des n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y a du v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ple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" action="ppaction://hlinkshowjump?jump=nextslide"/>
          </p:cNvPr>
          <p:cNvSpPr/>
          <p:nvPr/>
        </p:nvSpPr>
        <p:spPr>
          <a:xfrm>
            <a:off x="990720" y="2895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6"/>
                </a:lnTo>
                <a:lnTo>
                  <a:pt x="3794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1" action="ppaction://hlinksldjump"/>
          </p:cNvPr>
          <p:cNvSpPr/>
          <p:nvPr/>
        </p:nvSpPr>
        <p:spPr>
          <a:xfrm>
            <a:off x="990720" y="358128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2" action="ppaction://hlinksldjump"/>
          </p:cNvPr>
          <p:cNvSpPr/>
          <p:nvPr/>
        </p:nvSpPr>
        <p:spPr>
          <a:xfrm>
            <a:off x="990720" y="436716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rId3" action="ppaction://hlinksldjump"/>
          </p:cNvPr>
          <p:cNvSpPr/>
          <p:nvPr/>
        </p:nvSpPr>
        <p:spPr>
          <a:xfrm>
            <a:off x="990720" y="505296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C:\Users\owner\Desktop\snow_jpg_files\20169183.jpg"/>
          <p:cNvPicPr/>
          <p:nvPr/>
        </p:nvPicPr>
        <p:blipFill>
          <a:blip r:embed="rId4"/>
          <a:stretch/>
        </p:blipFill>
        <p:spPr>
          <a:xfrm>
            <a:off x="1000080" y="390600"/>
            <a:ext cx="2048040" cy="24098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6"/>
          <p:cNvSpPr txBox="1"/>
          <p:nvPr/>
        </p:nvSpPr>
        <p:spPr>
          <a:xfrm>
            <a:off x="457200" y="609480"/>
            <a:ext cx="4114800" cy="29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Lucida Calligraphy"/>
              </a:rPr>
              <a:t>Super!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Lucida Calligraphy"/>
              </a:rPr>
              <a:t>Continue!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35" name="AutoShape 7">
            <a:hlinkClick r:id="rId1" action="ppaction://hlinksldjump"/>
          </p:cNvPr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C:\Users\owner\Desktop\happy_jpg_files\22438272x.jpg"/>
          <p:cNvPicPr/>
          <p:nvPr/>
        </p:nvPicPr>
        <p:blipFill>
          <a:blip r:embed="rId2"/>
          <a:stretch/>
        </p:blipFill>
        <p:spPr>
          <a:xfrm>
            <a:off x="4876920" y="838080"/>
            <a:ext cx="3800520" cy="38815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274840" y="3022560"/>
            <a:ext cx="4572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Erreur!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9" name="AutoShape 5">
            <a:hlinkClick r:id="" action="ppaction://hlinkshowjump?jump=previousslide"/>
          </p:cNvPr>
          <p:cNvSpPr/>
          <p:nvPr/>
        </p:nvSpPr>
        <p:spPr>
          <a:xfrm>
            <a:off x="4267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:\Users\owner\Desktop\sad_jpg_files\22438264.jpg"/>
          <p:cNvPicPr/>
          <p:nvPr/>
        </p:nvPicPr>
        <p:blipFill>
          <a:blip r:embed="rId1"/>
          <a:stretch/>
        </p:blipFill>
        <p:spPr>
          <a:xfrm>
            <a:off x="3505320" y="380880"/>
            <a:ext cx="2514600" cy="25624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3666600" y="3200400"/>
            <a:ext cx="479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y a de l’o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fait fro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fait cha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l ne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>
            <a:hlinkClick r:id="rId1" action="ppaction://hlinksldjump"/>
          </p:cNvPr>
          <p:cNvSpPr/>
          <p:nvPr/>
        </p:nvSpPr>
        <p:spPr>
          <a:xfrm>
            <a:off x="2819520" y="406224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>
            <a:hlinkClick r:id="rId2" action="ppaction://hlinksldjump"/>
          </p:cNvPr>
          <p:cNvSpPr/>
          <p:nvPr/>
        </p:nvSpPr>
        <p:spPr>
          <a:xfrm>
            <a:off x="2819520" y="480060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>
            <a:hlinkClick r:id="rId3" action="ppaction://hlinksldjump"/>
          </p:cNvPr>
          <p:cNvSpPr/>
          <p:nvPr/>
        </p:nvSpPr>
        <p:spPr>
          <a:xfrm>
            <a:off x="2819520" y="5486400"/>
            <a:ext cx="609480" cy="6620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62">
                <a:moveTo>
                  <a:pt x="0" y="0"/>
                </a:moveTo>
                <a:lnTo>
                  <a:pt x="21600" y="0"/>
                </a:lnTo>
                <a:lnTo>
                  <a:pt x="21600" y="23462"/>
                </a:lnTo>
                <a:lnTo>
                  <a:pt x="0" y="23462"/>
                </a:lnTo>
                <a:close/>
              </a:path>
              <a:path fill="lightenLess" w="21600" h="234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2">
                <a:moveTo>
                  <a:pt x="21600" y="0"/>
                </a:moveTo>
                <a:lnTo>
                  <a:pt x="21600" y="23462"/>
                </a:lnTo>
                <a:lnTo>
                  <a:pt x="20200" y="22062"/>
                </a:lnTo>
                <a:lnTo>
                  <a:pt x="20200" y="1400"/>
                </a:lnTo>
                <a:close/>
              </a:path>
              <a:path fill="darkenLess" w="21600" h="23462">
                <a:moveTo>
                  <a:pt x="21600" y="23462"/>
                </a:moveTo>
                <a:lnTo>
                  <a:pt x="0" y="23462"/>
                </a:lnTo>
                <a:lnTo>
                  <a:pt x="1400" y="22062"/>
                </a:lnTo>
                <a:lnTo>
                  <a:pt x="20200" y="22062"/>
                </a:lnTo>
                <a:close/>
              </a:path>
              <a:path fill="lighten" w="21600" h="23462">
                <a:moveTo>
                  <a:pt x="0" y="234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2"/>
                </a:lnTo>
                <a:close/>
              </a:path>
              <a:path fill="darken" w="21600" h="23462">
                <a:moveTo>
                  <a:pt x="3794" y="4724"/>
                </a:moveTo>
                <a:lnTo>
                  <a:pt x="17806" y="11731"/>
                </a:lnTo>
                <a:lnTo>
                  <a:pt x="3794" y="18737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>
            <a:hlinkClick r:id="" action="ppaction://hlinkshowjump?jump=nextslide"/>
          </p:cNvPr>
          <p:cNvSpPr/>
          <p:nvPr/>
        </p:nvSpPr>
        <p:spPr>
          <a:xfrm>
            <a:off x="2819520" y="342900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C:\Users\owner\Desktop\storm_jpg_files\21416508.jpg"/>
          <p:cNvPicPr/>
          <p:nvPr/>
        </p:nvPicPr>
        <p:blipFill>
          <a:blip r:embed="rId4"/>
          <a:stretch/>
        </p:blipFill>
        <p:spPr>
          <a:xfrm>
            <a:off x="457200" y="304920"/>
            <a:ext cx="2962440" cy="28987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52480" y="3962520"/>
            <a:ext cx="66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Baveuse"/>
              </a:rPr>
              <a:t>Brav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>
            <a:hlinkClick r:id="rId1" action="ppaction://hlinksldjump"/>
          </p:cNvPr>
          <p:cNvSpPr/>
          <p:nvPr/>
        </p:nvSpPr>
        <p:spPr>
          <a:xfrm>
            <a:off x="4267080" y="5715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C:\Users\owner\Desktop\happy_jpg_files\yellow happy.jpg"/>
          <p:cNvPicPr/>
          <p:nvPr/>
        </p:nvPicPr>
        <p:blipFill>
          <a:blip r:embed="rId2"/>
          <a:stretch/>
        </p:blipFill>
        <p:spPr>
          <a:xfrm>
            <a:off x="3048120" y="304920"/>
            <a:ext cx="3114720" cy="318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6">
            <a:hlinkClick r:id="rId1" action="ppaction://hlinksldjump"/>
          </p:cNvPr>
          <p:cNvSpPr/>
          <p:nvPr/>
        </p:nvSpPr>
        <p:spPr>
          <a:xfrm>
            <a:off x="40384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C:\Users\owner\Desktop\happy_jpg_files\yellow happy.jpg"/>
          <p:cNvPicPr/>
          <p:nvPr/>
        </p:nvPicPr>
        <p:blipFill>
          <a:blip r:embed="rId2"/>
          <a:stretch/>
        </p:blipFill>
        <p:spPr>
          <a:xfrm>
            <a:off x="533520" y="762120"/>
            <a:ext cx="3571920" cy="3647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4974840" y="1523880"/>
            <a:ext cx="33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Baveuse"/>
              </a:rPr>
              <a:t>Brav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Baveuse"/>
              </a:rPr>
              <a:t>champ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429000" y="762120"/>
            <a:ext cx="513396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Calligraphy"/>
              </a:rPr>
              <a:t>Dommage!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4" name="AutoShape 5">
            <a:hlinkClick r:id="" action="ppaction://hlinkshowjump?jump=previousslide"/>
          </p:cNvPr>
          <p:cNvSpPr/>
          <p:nvPr/>
        </p:nvSpPr>
        <p:spPr>
          <a:xfrm>
            <a:off x="662940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C:\Users\owner\Desktop\sad_jpg_files\22438264X.jpg"/>
          <p:cNvPicPr/>
          <p:nvPr/>
        </p:nvPicPr>
        <p:blipFill>
          <a:blip r:embed="rId1"/>
          <a:stretch/>
        </p:blipFill>
        <p:spPr>
          <a:xfrm>
            <a:off x="1143000" y="2362320"/>
            <a:ext cx="3876840" cy="39495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0"/>
          <p:cNvSpPr/>
          <p:nvPr/>
        </p:nvSpPr>
        <p:spPr>
          <a:xfrm>
            <a:off x="1295280" y="2362320"/>
            <a:ext cx="6629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’ét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’h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printem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’autom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638680" y="2108160"/>
            <a:ext cx="99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820960" y="1447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562720" y="1447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897280" y="5334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5868720" y="5410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2">
            <a:hlinkClick r:id="" action="ppaction://hlinkshowjump?jump=nextslide"/>
          </p:cNvPr>
          <p:cNvSpPr/>
          <p:nvPr/>
        </p:nvSpPr>
        <p:spPr>
          <a:xfrm>
            <a:off x="6477120" y="43434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4">
            <a:hlinkClick r:id="rId1" action="ppaction://hlinksldjump"/>
          </p:cNvPr>
          <p:cNvSpPr/>
          <p:nvPr/>
        </p:nvSpPr>
        <p:spPr>
          <a:xfrm>
            <a:off x="6400800" y="2362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6">
            <a:hlinkClick r:id="" action="ppaction://hlinkshowjump?jump=nextslide"/>
          </p:cNvPr>
          <p:cNvSpPr/>
          <p:nvPr/>
        </p:nvSpPr>
        <p:spPr>
          <a:xfrm>
            <a:off x="7162920" y="23623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7">
            <a:hlinkClick r:id="" action="ppaction://hlinkshowjump?jump=nextslide"/>
          </p:cNvPr>
          <p:cNvSpPr/>
          <p:nvPr/>
        </p:nvSpPr>
        <p:spPr>
          <a:xfrm>
            <a:off x="7848720" y="23623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>
            <a:hlinkClick r:id="rId2" action="ppaction://hlinksldjump"/>
          </p:cNvPr>
          <p:cNvSpPr/>
          <p:nvPr/>
        </p:nvSpPr>
        <p:spPr>
          <a:xfrm>
            <a:off x="5715000" y="3048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>
            <a:hlinkClick r:id="rId3" action="ppaction://hlinksldjump"/>
          </p:cNvPr>
          <p:cNvSpPr/>
          <p:nvPr/>
        </p:nvSpPr>
        <p:spPr>
          <a:xfrm>
            <a:off x="7848720" y="3733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>
            <a:hlinkClick r:id="rId4" action="ppaction://hlinksldjump"/>
          </p:cNvPr>
          <p:cNvSpPr/>
          <p:nvPr/>
        </p:nvSpPr>
        <p:spPr>
          <a:xfrm>
            <a:off x="7238880" y="43434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1">
            <a:hlinkClick r:id="" action="ppaction://hlinkshowjump?jump=nextslide"/>
          </p:cNvPr>
          <p:cNvSpPr/>
          <p:nvPr/>
        </p:nvSpPr>
        <p:spPr>
          <a:xfrm>
            <a:off x="6477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2">
            <a:hlinkClick r:id="" action="ppaction://hlinkshowjump?jump=nextslide"/>
          </p:cNvPr>
          <p:cNvSpPr/>
          <p:nvPr/>
        </p:nvSpPr>
        <p:spPr>
          <a:xfrm>
            <a:off x="71629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3">
            <a:hlinkClick r:id="" action="ppaction://hlinkshowjump?jump=nextslide"/>
          </p:cNvPr>
          <p:cNvSpPr/>
          <p:nvPr/>
        </p:nvSpPr>
        <p:spPr>
          <a:xfrm>
            <a:off x="7848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>
            <a:hlinkClick r:id="" action="ppaction://hlinkshowjump?jump=nextslide"/>
          </p:cNvPr>
          <p:cNvSpPr/>
          <p:nvPr/>
        </p:nvSpPr>
        <p:spPr>
          <a:xfrm>
            <a:off x="5791320" y="3733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5">
            <a:hlinkClick r:id="" action="ppaction://hlinkshowjump?jump=nextslide"/>
          </p:cNvPr>
          <p:cNvSpPr/>
          <p:nvPr/>
        </p:nvSpPr>
        <p:spPr>
          <a:xfrm>
            <a:off x="6477120" y="3733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6">
            <a:hlinkClick r:id="" action="ppaction://hlinkshowjump?jump=nextslide"/>
          </p:cNvPr>
          <p:cNvSpPr/>
          <p:nvPr/>
        </p:nvSpPr>
        <p:spPr>
          <a:xfrm>
            <a:off x="72388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7">
            <a:hlinkClick r:id="" action="ppaction://hlinkshowjump?jump=nextslide"/>
          </p:cNvPr>
          <p:cNvSpPr/>
          <p:nvPr/>
        </p:nvSpPr>
        <p:spPr>
          <a:xfrm>
            <a:off x="5791320" y="43434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8">
            <a:hlinkClick r:id="" action="ppaction://hlinkshowjump?jump=nextslide"/>
          </p:cNvPr>
          <p:cNvSpPr/>
          <p:nvPr/>
        </p:nvSpPr>
        <p:spPr>
          <a:xfrm>
            <a:off x="5715000" y="23623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9">
            <a:hlinkClick r:id="" action="ppaction://hlinkshowjump?jump=nextslide"/>
          </p:cNvPr>
          <p:cNvSpPr/>
          <p:nvPr/>
        </p:nvSpPr>
        <p:spPr>
          <a:xfrm>
            <a:off x="7924680" y="43434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0" descr="C:\Users\owner\Desktop\sled_jpg_files\21746710.jpg"/>
          <p:cNvPicPr/>
          <p:nvPr/>
        </p:nvPicPr>
        <p:blipFill>
          <a:blip r:embed="rId5"/>
          <a:stretch/>
        </p:blipFill>
        <p:spPr>
          <a:xfrm>
            <a:off x="1371600" y="380880"/>
            <a:ext cx="1133640" cy="168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1" descr="C:\Users\owner\Desktop\beach_jpg_files\22057710.jpg"/>
          <p:cNvPicPr/>
          <p:nvPr/>
        </p:nvPicPr>
        <p:blipFill>
          <a:blip r:embed="rId6"/>
          <a:stretch/>
        </p:blipFill>
        <p:spPr>
          <a:xfrm>
            <a:off x="6248520" y="457200"/>
            <a:ext cx="2124000" cy="162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2" descr="C:\Users\owner\Desktop\fall_jpg_files\20506855.jpg"/>
          <p:cNvPicPr/>
          <p:nvPr/>
        </p:nvPicPr>
        <p:blipFill>
          <a:blip r:embed="rId7"/>
          <a:stretch/>
        </p:blipFill>
        <p:spPr>
          <a:xfrm>
            <a:off x="685800" y="4952880"/>
            <a:ext cx="2048040" cy="1482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3" descr="C:\Users\owner\Desktop\chirp_jpg_files\37188503.jpg"/>
          <p:cNvPicPr/>
          <p:nvPr/>
        </p:nvPicPr>
        <p:blipFill>
          <a:blip r:embed="rId8"/>
          <a:stretch/>
        </p:blipFill>
        <p:spPr>
          <a:xfrm>
            <a:off x="6580080" y="5105520"/>
            <a:ext cx="1563840" cy="1304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219320" y="1752480"/>
            <a:ext cx="5867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ssaie encore une fois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AutoShape 5">
            <a:hlinkClick r:id="" action="ppaction://hlinkshowjump?jump=previousslide"/>
          </p:cNvPr>
          <p:cNvSpPr/>
          <p:nvPr/>
        </p:nvSpPr>
        <p:spPr>
          <a:xfrm>
            <a:off x="59436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5"/>
          <p:cNvSpPr txBox="1"/>
          <p:nvPr/>
        </p:nvSpPr>
        <p:spPr>
          <a:xfrm>
            <a:off x="1600200" y="3657600"/>
            <a:ext cx="611964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gnifique!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AutoShape 6">
            <a:hlinkClick r:id="" action="ppaction://hlinkshowjump?jump=nextslide"/>
          </p:cNvPr>
          <p:cNvSpPr/>
          <p:nvPr/>
        </p:nvSpPr>
        <p:spPr>
          <a:xfrm>
            <a:off x="7391520" y="2057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C:\Users\owner\Desktop\happy_jpg_files\yellow happy.jpg"/>
          <p:cNvPicPr/>
          <p:nvPr/>
        </p:nvPicPr>
        <p:blipFill>
          <a:blip r:embed="rId3"/>
          <a:stretch/>
        </p:blipFill>
        <p:spPr>
          <a:xfrm>
            <a:off x="1447920" y="533520"/>
            <a:ext cx="3504960" cy="3579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355760" y="1947960"/>
            <a:ext cx="57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you do all 4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i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>
            <a:hlinkClick r:id="" action="ppaction://hlinkshowjump?jump=lastslide"/>
          </p:cNvPr>
          <p:cNvSpPr/>
          <p:nvPr/>
        </p:nvSpPr>
        <p:spPr>
          <a:xfrm>
            <a:off x="3429000" y="3200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3429000" y="4191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6"/>
          <p:cNvSpPr/>
          <p:nvPr/>
        </p:nvSpPr>
        <p:spPr>
          <a:xfrm>
            <a:off x="1641960" y="1676520"/>
            <a:ext cx="595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Verdana"/>
                <a:ea typeface="Verdana"/>
              </a:rPr>
              <a:t>Tu as fini!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Verdana"/>
                <a:ea typeface="Verdana"/>
              </a:rPr>
              <a:t> </a:t>
            </a:r>
            <a:r>
              <a:rPr b="0" lang="en-US" sz="9600" spc="-1" strike="noStrike">
                <a:solidFill>
                  <a:srgbClr val="ff6600"/>
                </a:solidFill>
                <a:latin typeface="Verdana"/>
                <a:ea typeface="Verdana"/>
              </a:rPr>
              <a:t>Brav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06400" y="464832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, recommenc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>
            <a:hlinkClick r:id="" action="ppaction://hlinkshowjump?jump=previousslide"/>
          </p:cNvPr>
          <p:cNvSpPr/>
          <p:nvPr/>
        </p:nvSpPr>
        <p:spPr>
          <a:xfrm>
            <a:off x="6858000" y="4191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Users\owner\Desktop\sad_jpg_files\22438264.jpg"/>
          <p:cNvPicPr/>
          <p:nvPr/>
        </p:nvPicPr>
        <p:blipFill>
          <a:blip r:embed="rId1"/>
          <a:stretch/>
        </p:blipFill>
        <p:spPr>
          <a:xfrm>
            <a:off x="2252520" y="1066680"/>
            <a:ext cx="2853000" cy="2905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3842280" y="2362320"/>
            <a:ext cx="49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y a des n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34720" y="3200400"/>
            <a:ext cx="384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y a du v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78280" y="4084560"/>
            <a:ext cx="519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y a du brouill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>
            <a:hlinkClick r:id="rId1" action="ppaction://hlinksldjump"/>
          </p:cNvPr>
          <p:cNvSpPr/>
          <p:nvPr/>
        </p:nvSpPr>
        <p:spPr>
          <a:xfrm>
            <a:off x="2819520" y="2286000"/>
            <a:ext cx="609480" cy="8143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14320"/>
              <a:gd name="textAreaBottom" fmla="*/ 775080 h 814320"/>
            </a:gdLst>
            <a:ahLst/>
            <a:rect l="textAreaLeft" t="textAreaTop" r="textAreaRight" b="textAreaBottom"/>
            <a:pathLst>
              <a:path w="21600" h="28855">
                <a:moveTo>
                  <a:pt x="0" y="0"/>
                </a:moveTo>
                <a:lnTo>
                  <a:pt x="21600" y="0"/>
                </a:lnTo>
                <a:lnTo>
                  <a:pt x="21600" y="28855"/>
                </a:lnTo>
                <a:lnTo>
                  <a:pt x="0" y="28855"/>
                </a:lnTo>
                <a:close/>
              </a:path>
              <a:path fill="lightenLess" w="21600" h="288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55">
                <a:moveTo>
                  <a:pt x="21600" y="0"/>
                </a:moveTo>
                <a:lnTo>
                  <a:pt x="21600" y="28855"/>
                </a:lnTo>
                <a:lnTo>
                  <a:pt x="20200" y="27455"/>
                </a:lnTo>
                <a:lnTo>
                  <a:pt x="20200" y="1400"/>
                </a:lnTo>
                <a:close/>
              </a:path>
              <a:path fill="darkenLess" w="21600" h="28855">
                <a:moveTo>
                  <a:pt x="21600" y="28855"/>
                </a:moveTo>
                <a:lnTo>
                  <a:pt x="0" y="28855"/>
                </a:lnTo>
                <a:lnTo>
                  <a:pt x="1400" y="27455"/>
                </a:lnTo>
                <a:lnTo>
                  <a:pt x="20200" y="27455"/>
                </a:lnTo>
                <a:close/>
              </a:path>
              <a:path fill="lighten" w="21600" h="28855">
                <a:moveTo>
                  <a:pt x="0" y="288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55"/>
                </a:lnTo>
                <a:close/>
              </a:path>
              <a:path fill="darken" w="21600" h="28855">
                <a:moveTo>
                  <a:pt x="3794" y="7421"/>
                </a:moveTo>
                <a:lnTo>
                  <a:pt x="17806" y="14428"/>
                </a:lnTo>
                <a:lnTo>
                  <a:pt x="3794" y="214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>
            <a:hlinkClick r:id="rId2" action="ppaction://hlinksldjump"/>
          </p:cNvPr>
          <p:cNvSpPr/>
          <p:nvPr/>
        </p:nvSpPr>
        <p:spPr>
          <a:xfrm>
            <a:off x="2819520" y="4267080"/>
            <a:ext cx="609480" cy="8146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14680"/>
              <a:gd name="textAreaBottom" fmla="*/ 775440 h 814680"/>
            </a:gdLst>
            <a:ahLst/>
            <a:rect l="textAreaLeft" t="textAreaTop" r="textAreaRight" b="textAreaBottom"/>
            <a:pathLst>
              <a:path w="21600" h="28868">
                <a:moveTo>
                  <a:pt x="0" y="0"/>
                </a:moveTo>
                <a:lnTo>
                  <a:pt x="21600" y="0"/>
                </a:lnTo>
                <a:lnTo>
                  <a:pt x="21600" y="28868"/>
                </a:lnTo>
                <a:lnTo>
                  <a:pt x="0" y="28868"/>
                </a:lnTo>
                <a:close/>
              </a:path>
              <a:path fill="lightenLess" w="21600" h="28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68">
                <a:moveTo>
                  <a:pt x="21600" y="0"/>
                </a:moveTo>
                <a:lnTo>
                  <a:pt x="21600" y="28868"/>
                </a:lnTo>
                <a:lnTo>
                  <a:pt x="20200" y="27468"/>
                </a:lnTo>
                <a:lnTo>
                  <a:pt x="20200" y="1400"/>
                </a:lnTo>
                <a:close/>
              </a:path>
              <a:path fill="darkenLess" w="21600" h="28868">
                <a:moveTo>
                  <a:pt x="21600" y="28868"/>
                </a:moveTo>
                <a:lnTo>
                  <a:pt x="0" y="28868"/>
                </a:lnTo>
                <a:lnTo>
                  <a:pt x="1400" y="27468"/>
                </a:lnTo>
                <a:lnTo>
                  <a:pt x="20200" y="27468"/>
                </a:lnTo>
                <a:close/>
              </a:path>
              <a:path fill="lighten" w="21600" h="28868">
                <a:moveTo>
                  <a:pt x="0" y="28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68"/>
                </a:lnTo>
                <a:close/>
              </a:path>
              <a:path fill="darken" w="21600" h="28868">
                <a:moveTo>
                  <a:pt x="3794" y="7428"/>
                </a:moveTo>
                <a:lnTo>
                  <a:pt x="17806" y="14434"/>
                </a:lnTo>
                <a:lnTo>
                  <a:pt x="3794" y="21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>
            <a:hlinkClick r:id="" action="ppaction://hlinkshowjump?jump=nextslide"/>
          </p:cNvPr>
          <p:cNvSpPr/>
          <p:nvPr/>
        </p:nvSpPr>
        <p:spPr>
          <a:xfrm>
            <a:off x="2819520" y="3276720"/>
            <a:ext cx="609480" cy="8906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90640"/>
              <a:gd name="textAreaBottom" fmla="*/ 851400 h 890640"/>
            </a:gdLst>
            <a:ahLst/>
            <a:rect l="textAreaLeft" t="textAreaTop" r="textAreaRight" b="textAreaBottom"/>
            <a:pathLst>
              <a:path w="21600" h="31558">
                <a:moveTo>
                  <a:pt x="0" y="0"/>
                </a:moveTo>
                <a:lnTo>
                  <a:pt x="21600" y="0"/>
                </a:lnTo>
                <a:lnTo>
                  <a:pt x="21600" y="31558"/>
                </a:lnTo>
                <a:lnTo>
                  <a:pt x="0" y="31558"/>
                </a:lnTo>
                <a:close/>
              </a:path>
              <a:path fill="lightenLess" w="21600" h="31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558">
                <a:moveTo>
                  <a:pt x="21600" y="0"/>
                </a:moveTo>
                <a:lnTo>
                  <a:pt x="21600" y="31558"/>
                </a:lnTo>
                <a:lnTo>
                  <a:pt x="20200" y="30158"/>
                </a:lnTo>
                <a:lnTo>
                  <a:pt x="20200" y="1400"/>
                </a:lnTo>
                <a:close/>
              </a:path>
              <a:path fill="darkenLess" w="21600" h="31558">
                <a:moveTo>
                  <a:pt x="21600" y="31558"/>
                </a:moveTo>
                <a:lnTo>
                  <a:pt x="0" y="31558"/>
                </a:lnTo>
                <a:lnTo>
                  <a:pt x="1400" y="30158"/>
                </a:lnTo>
                <a:lnTo>
                  <a:pt x="20200" y="30158"/>
                </a:lnTo>
                <a:close/>
              </a:path>
              <a:path fill="lighten" w="21600" h="31558">
                <a:moveTo>
                  <a:pt x="0" y="31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158"/>
                </a:lnTo>
                <a:close/>
              </a:path>
              <a:path fill="darken" w="21600" h="31558">
                <a:moveTo>
                  <a:pt x="3794" y="8773"/>
                </a:moveTo>
                <a:lnTo>
                  <a:pt x="17806" y="15779"/>
                </a:lnTo>
                <a:lnTo>
                  <a:pt x="3794" y="227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C:\Users\owner\Desktop\wind_jpg_files\21746221.jpg"/>
          <p:cNvPicPr/>
          <p:nvPr/>
        </p:nvPicPr>
        <p:blipFill>
          <a:blip r:embed="rId3"/>
          <a:stretch/>
        </p:blipFill>
        <p:spPr>
          <a:xfrm>
            <a:off x="380880" y="304920"/>
            <a:ext cx="2505240" cy="1960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371600" y="1066680"/>
            <a:ext cx="6248520" cy="2438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087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Excellent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73" name="AutoShape 7">
            <a:hlinkClick r:id="rId1" action="ppaction://hlinksldjump"/>
          </p:cNvPr>
          <p:cNvSpPr/>
          <p:nvPr/>
        </p:nvSpPr>
        <p:spPr>
          <a:xfrm>
            <a:off x="41148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C:\Users\owner\Desktop\happy_jpg_files\yellow happy.jpg"/>
          <p:cNvPicPr/>
          <p:nvPr/>
        </p:nvPicPr>
        <p:blipFill>
          <a:blip r:embed="rId2"/>
          <a:stretch/>
        </p:blipFill>
        <p:spPr>
          <a:xfrm>
            <a:off x="3048120" y="1905120"/>
            <a:ext cx="3114720" cy="3181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377720" y="4343400"/>
            <a:ext cx="546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n, recomm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previousslide"/>
          </p:cNvPr>
          <p:cNvSpPr/>
          <p:nvPr/>
        </p:nvSpPr>
        <p:spPr>
          <a:xfrm>
            <a:off x="7315200" y="4191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09480" y="1066680"/>
            <a:ext cx="33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597a0"/>
                </a:solidFill>
                <a:latin typeface="Baveuse"/>
              </a:rPr>
              <a:t>Zut, alor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Users\owner\Desktop\sad_jpg_files\22438264X.jpg"/>
          <p:cNvPicPr/>
          <p:nvPr/>
        </p:nvPicPr>
        <p:blipFill>
          <a:blip r:embed="rId1"/>
          <a:stretch/>
        </p:blipFill>
        <p:spPr>
          <a:xfrm>
            <a:off x="5029200" y="457200"/>
            <a:ext cx="3343320" cy="3405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2979360" y="3276720"/>
            <a:ext cx="5672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’est l’é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’est l’autom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’est le printem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’est l’hi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>
            <a:hlinkClick r:id="rId1" action="ppaction://hlinksldjump"/>
          </p:cNvPr>
          <p:cNvSpPr/>
          <p:nvPr/>
        </p:nvSpPr>
        <p:spPr>
          <a:xfrm>
            <a:off x="2286000" y="3276720"/>
            <a:ext cx="585720" cy="73800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738000"/>
              <a:gd name="textAreaBottom" fmla="*/ 700200 h 738000"/>
            </a:gdLst>
            <a:ahLst/>
            <a:rect l="textAreaLeft" t="textAreaTop" r="textAreaRight" b="textAreaBottom"/>
            <a:pathLst>
              <a:path w="21600" h="27212">
                <a:moveTo>
                  <a:pt x="0" y="0"/>
                </a:moveTo>
                <a:lnTo>
                  <a:pt x="21600" y="0"/>
                </a:lnTo>
                <a:lnTo>
                  <a:pt x="21600" y="27212"/>
                </a:lnTo>
                <a:lnTo>
                  <a:pt x="0" y="27212"/>
                </a:lnTo>
                <a:close/>
              </a:path>
              <a:path fill="lightenLess" w="21600" h="272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12">
                <a:moveTo>
                  <a:pt x="21600" y="0"/>
                </a:moveTo>
                <a:lnTo>
                  <a:pt x="21600" y="27212"/>
                </a:lnTo>
                <a:lnTo>
                  <a:pt x="20200" y="25812"/>
                </a:lnTo>
                <a:lnTo>
                  <a:pt x="20200" y="1400"/>
                </a:lnTo>
                <a:close/>
              </a:path>
              <a:path fill="darkenLess" w="21600" h="27212">
                <a:moveTo>
                  <a:pt x="21600" y="27212"/>
                </a:moveTo>
                <a:lnTo>
                  <a:pt x="0" y="27212"/>
                </a:lnTo>
                <a:lnTo>
                  <a:pt x="1400" y="25812"/>
                </a:lnTo>
                <a:lnTo>
                  <a:pt x="20200" y="25812"/>
                </a:lnTo>
                <a:close/>
              </a:path>
              <a:path fill="lighten" w="21600" h="27212">
                <a:moveTo>
                  <a:pt x="0" y="272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12"/>
                </a:lnTo>
                <a:close/>
              </a:path>
              <a:path fill="darken" w="21600" h="27212">
                <a:moveTo>
                  <a:pt x="3794" y="6600"/>
                </a:moveTo>
                <a:lnTo>
                  <a:pt x="17806" y="13606"/>
                </a:lnTo>
                <a:lnTo>
                  <a:pt x="3794" y="206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>
            <a:hlinkClick r:id="rId2" action="ppaction://hlinksldjump"/>
          </p:cNvPr>
          <p:cNvSpPr/>
          <p:nvPr/>
        </p:nvSpPr>
        <p:spPr>
          <a:xfrm>
            <a:off x="2286000" y="4038480"/>
            <a:ext cx="585720" cy="73836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738360"/>
              <a:gd name="textAreaBottom" fmla="*/ 700560 h 738360"/>
            </a:gdLst>
            <a:ahLst/>
            <a:rect l="textAreaLeft" t="textAreaTop" r="textAreaRight" b="textAreaBottom"/>
            <a:pathLst>
              <a:path w="21600" h="27226">
                <a:moveTo>
                  <a:pt x="0" y="0"/>
                </a:moveTo>
                <a:lnTo>
                  <a:pt x="21600" y="0"/>
                </a:lnTo>
                <a:lnTo>
                  <a:pt x="21600" y="27226"/>
                </a:lnTo>
                <a:lnTo>
                  <a:pt x="0" y="27226"/>
                </a:lnTo>
                <a:close/>
              </a:path>
              <a:path fill="lightenLess" w="21600" h="272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26">
                <a:moveTo>
                  <a:pt x="21600" y="0"/>
                </a:moveTo>
                <a:lnTo>
                  <a:pt x="21600" y="27226"/>
                </a:lnTo>
                <a:lnTo>
                  <a:pt x="20200" y="25826"/>
                </a:lnTo>
                <a:lnTo>
                  <a:pt x="20200" y="1400"/>
                </a:lnTo>
                <a:close/>
              </a:path>
              <a:path fill="darkenLess" w="21600" h="27226">
                <a:moveTo>
                  <a:pt x="21600" y="27226"/>
                </a:moveTo>
                <a:lnTo>
                  <a:pt x="0" y="27226"/>
                </a:lnTo>
                <a:lnTo>
                  <a:pt x="1400" y="25826"/>
                </a:lnTo>
                <a:lnTo>
                  <a:pt x="20200" y="25826"/>
                </a:lnTo>
                <a:close/>
              </a:path>
              <a:path fill="lighten" w="21600" h="27226">
                <a:moveTo>
                  <a:pt x="0" y="272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26"/>
                </a:lnTo>
                <a:close/>
              </a:path>
              <a:path fill="darken" w="21600" h="27226">
                <a:moveTo>
                  <a:pt x="3794" y="6606"/>
                </a:moveTo>
                <a:lnTo>
                  <a:pt x="17806" y="13613"/>
                </a:lnTo>
                <a:lnTo>
                  <a:pt x="3794" y="2061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>
            <a:hlinkClick r:id="rId3" action="ppaction://hlinksldjump"/>
          </p:cNvPr>
          <p:cNvSpPr/>
          <p:nvPr/>
        </p:nvSpPr>
        <p:spPr>
          <a:xfrm>
            <a:off x="2286000" y="4800600"/>
            <a:ext cx="585720" cy="73836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738360"/>
              <a:gd name="textAreaBottom" fmla="*/ 700560 h 738360"/>
            </a:gdLst>
            <a:ahLst/>
            <a:rect l="textAreaLeft" t="textAreaTop" r="textAreaRight" b="textAreaBottom"/>
            <a:pathLst>
              <a:path w="21600" h="27226">
                <a:moveTo>
                  <a:pt x="0" y="0"/>
                </a:moveTo>
                <a:lnTo>
                  <a:pt x="21600" y="0"/>
                </a:lnTo>
                <a:lnTo>
                  <a:pt x="21600" y="27226"/>
                </a:lnTo>
                <a:lnTo>
                  <a:pt x="0" y="27226"/>
                </a:lnTo>
                <a:close/>
              </a:path>
              <a:path fill="lightenLess" w="21600" h="272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26">
                <a:moveTo>
                  <a:pt x="21600" y="0"/>
                </a:moveTo>
                <a:lnTo>
                  <a:pt x="21600" y="27226"/>
                </a:lnTo>
                <a:lnTo>
                  <a:pt x="20200" y="25826"/>
                </a:lnTo>
                <a:lnTo>
                  <a:pt x="20200" y="1400"/>
                </a:lnTo>
                <a:close/>
              </a:path>
              <a:path fill="darkenLess" w="21600" h="27226">
                <a:moveTo>
                  <a:pt x="21600" y="27226"/>
                </a:moveTo>
                <a:lnTo>
                  <a:pt x="0" y="27226"/>
                </a:lnTo>
                <a:lnTo>
                  <a:pt x="1400" y="25826"/>
                </a:lnTo>
                <a:lnTo>
                  <a:pt x="20200" y="25826"/>
                </a:lnTo>
                <a:close/>
              </a:path>
              <a:path fill="lighten" w="21600" h="27226">
                <a:moveTo>
                  <a:pt x="0" y="272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26"/>
                </a:lnTo>
                <a:close/>
              </a:path>
              <a:path fill="darken" w="21600" h="27226">
                <a:moveTo>
                  <a:pt x="3794" y="6606"/>
                </a:moveTo>
                <a:lnTo>
                  <a:pt x="17806" y="13613"/>
                </a:lnTo>
                <a:lnTo>
                  <a:pt x="3794" y="2061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>
            <a:hlinkClick r:id="" action="ppaction://hlinkshowjump?jump=nextslide"/>
          </p:cNvPr>
          <p:cNvSpPr/>
          <p:nvPr/>
        </p:nvSpPr>
        <p:spPr>
          <a:xfrm>
            <a:off x="2286000" y="5562720"/>
            <a:ext cx="609480" cy="7380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000"/>
              <a:gd name="textAreaBottom" fmla="*/ 698760 h 738000"/>
            </a:gdLst>
            <a:ahLst/>
            <a:rect l="textAreaLeft" t="textAreaTop" r="textAreaRight" b="textAreaBottom"/>
            <a:pathLst>
              <a:path w="21600" h="26152">
                <a:moveTo>
                  <a:pt x="0" y="0"/>
                </a:moveTo>
                <a:lnTo>
                  <a:pt x="21600" y="0"/>
                </a:lnTo>
                <a:lnTo>
                  <a:pt x="21600" y="26152"/>
                </a:lnTo>
                <a:lnTo>
                  <a:pt x="0" y="26152"/>
                </a:lnTo>
                <a:close/>
              </a:path>
              <a:path fill="lightenLess" w="21600" h="26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52">
                <a:moveTo>
                  <a:pt x="21600" y="0"/>
                </a:moveTo>
                <a:lnTo>
                  <a:pt x="21600" y="26152"/>
                </a:lnTo>
                <a:lnTo>
                  <a:pt x="20200" y="24752"/>
                </a:lnTo>
                <a:lnTo>
                  <a:pt x="20200" y="1400"/>
                </a:lnTo>
                <a:close/>
              </a:path>
              <a:path fill="darkenLess" w="21600" h="26152">
                <a:moveTo>
                  <a:pt x="21600" y="26152"/>
                </a:moveTo>
                <a:lnTo>
                  <a:pt x="0" y="26152"/>
                </a:lnTo>
                <a:lnTo>
                  <a:pt x="1400" y="24752"/>
                </a:lnTo>
                <a:lnTo>
                  <a:pt x="20200" y="24752"/>
                </a:lnTo>
                <a:close/>
              </a:path>
              <a:path fill="lighten" w="21600" h="26152">
                <a:moveTo>
                  <a:pt x="0" y="26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52"/>
                </a:lnTo>
                <a:close/>
              </a:path>
              <a:path fill="darken" w="21600" h="26152">
                <a:moveTo>
                  <a:pt x="3794" y="6070"/>
                </a:moveTo>
                <a:lnTo>
                  <a:pt x="17806" y="13076"/>
                </a:lnTo>
                <a:lnTo>
                  <a:pt x="3794" y="2008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Users\owner\Desktop\winter_jpg_files\20367941.jpg"/>
          <p:cNvPicPr/>
          <p:nvPr/>
        </p:nvPicPr>
        <p:blipFill>
          <a:blip r:embed="rId4"/>
          <a:stretch/>
        </p:blipFill>
        <p:spPr>
          <a:xfrm>
            <a:off x="457200" y="304920"/>
            <a:ext cx="2809800" cy="2828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4952880" y="990720"/>
            <a:ext cx="354816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gnifique!</a:t>
            </a:r>
            <a:endParaRPr b="0" lang="en-US" sz="54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41148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:\Users\owner\Desktop\happy_jpg_files\22438272.jpg"/>
          <p:cNvPicPr/>
          <p:nvPr/>
        </p:nvPicPr>
        <p:blipFill>
          <a:blip r:embed="rId2"/>
          <a:stretch/>
        </p:blipFill>
        <p:spPr>
          <a:xfrm>
            <a:off x="762120" y="762120"/>
            <a:ext cx="3724200" cy="380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533520" y="2362320"/>
            <a:ext cx="38480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Je regrette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Users\owner\Desktop\sad_jpg_files\22438264X.jpg"/>
          <p:cNvPicPr/>
          <p:nvPr/>
        </p:nvPicPr>
        <p:blipFill>
          <a:blip r:embed="rId2"/>
          <a:stretch/>
        </p:blipFill>
        <p:spPr>
          <a:xfrm>
            <a:off x="4876920" y="533520"/>
            <a:ext cx="3724200" cy="3794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474320" y="647712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1:16:07Z</dcterms:created>
  <dc:creator>owner</dc:creator>
  <dc:description/>
  <dc:language>en-US</dc:language>
  <cp:lastModifiedBy>owner</cp:lastModifiedBy>
  <dcterms:modified xsi:type="dcterms:W3CDTF">2009-04-30T11:15:50Z</dcterms:modified>
  <cp:revision>23</cp:revision>
  <dc:subject/>
  <dc:title>Slide 1</dc:title>
</cp:coreProperties>
</file>